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75C1-F18B-4698-9E77-7688CC68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9A29-5EF4-446E-BFF4-71EF3AF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46B0-E12B-4DA0-B64C-4659BB8F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BFF7-F9B7-4799-8AD1-99BC1EBB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D7D-33C9-42A1-88C0-6F3FBD26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DBF3-788A-40A0-B53B-54A1F0A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BF2D-4424-4DF3-918C-F00ECBE9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52FB-164B-4AFF-85EB-62C329C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110E-85A8-4568-8F0C-B459C52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99BA-4B63-4940-8AC2-C605941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4D80-D0F6-43E0-807C-C8D712C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37F9-CAB2-412E-B662-A102F887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F0D5-1305-4F11-8E7E-61AE640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05E-3AA5-490F-8DBB-5279AA3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A482-124E-4E5A-9ED6-555224C7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E38-4A93-473B-A340-E3943C47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488-C2B2-4A3D-BB0B-34243ED8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A0F9-32D7-43D6-91E4-302DD89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8AFD-9F77-40B0-90ED-62B99562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CCD2-1562-4201-8759-3042E6E1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70A6-10CD-4E9D-89CD-6A11D57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AF9F-1CF0-42E4-A684-C4180D2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BF87-549F-4CF9-8014-0DF962D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3F63-C2FE-4676-8E3C-3B06C8F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285-AAE3-4D0F-AA39-91387460F1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D09-308B-4B6B-B74F-3C858B84B4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1915920"/>
            <a:ext cx="45529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Monotype Corsiva"/>
              </a:rPr>
              <a:t>Геометр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34920" y="4365360"/>
            <a:ext cx="360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80000" y="4313160"/>
            <a:ext cx="2592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Monotype Corsiva"/>
              </a:rPr>
              <a:t>Свойства прям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59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Через любые две точки можно построить прямую и притом только од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рямая бесконеч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2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64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Знаете ли Вы, что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6912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звание науки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геометрия»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древнегреческого происхож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ge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» - «зем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800080"/>
                </a:solidFill>
                <a:latin typeface="Arial"/>
              </a:rPr>
              <a:t>metreo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» - «измеряю»,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таким обра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80"/>
                </a:solidFill>
                <a:latin typeface="Arial"/>
              </a:rPr>
              <a:t>геометрия – землемер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5877000"/>
            <a:ext cx="4181400" cy="2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117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63471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Историческая справ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 u="sng">
                <a:solidFill>
                  <a:srgbClr val="800080"/>
                </a:solidFill>
                <a:uFillTx/>
                <a:latin typeface="Times New Roman"/>
              </a:rPr>
              <a:t>Геометр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одна из наиболее древних наук. Появление и развитие геометрических знаний связано с практической деятельностью людей: сооружение жилищ, храмов, измерение земельных участков и т.п. Это отразилось и в названиях многих геометрических фигур. </a:t>
            </a:r>
            <a:r>
              <a:rPr b="0" lang="ru-RU" sz="3200" spc="-1" strike="noStrike" u="sng">
                <a:solidFill>
                  <a:srgbClr val="00007d"/>
                </a:solidFill>
                <a:uFillTx/>
                <a:latin typeface="Times New Roman"/>
              </a:rPr>
              <a:t>Например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трапеци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ezion) –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стол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ли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m) – </a:t>
            </a:r>
            <a:r>
              <a:rPr b="0" i="1" lang="ru-RU" sz="2800" spc="-1" strike="noStrike">
                <a:solidFill>
                  <a:srgbClr val="800080"/>
                </a:solidFill>
                <a:latin typeface="Arial"/>
              </a:rPr>
              <a:t>«лен, льняная ни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22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456840"/>
            <a:ext cx="63356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Фалес Милетский. </a:t>
            </a:r>
            <a:br>
              <a:rPr sz="4800"/>
            </a:b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(около 625-547 гг.до н.э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1988640"/>
            <a:ext cx="6562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алес – древнегреческий математик и астроном. В молодости посетил Египет, где в школах Мемфиса и Фив изучал разные науки. Он первым начал получать новые геометрические сведения с помощью доказательст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2060640"/>
            <a:ext cx="1847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152800" cy="2885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138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Евклид (Эвклид)</a:t>
            </a:r>
            <a:br>
              <a:rPr sz="4800"/>
            </a:br>
            <a:r>
              <a:rPr b="0" lang="en-US" sz="4800" spc="-1" strike="noStrike">
                <a:solidFill>
                  <a:srgbClr val="800080"/>
                </a:solidFill>
                <a:latin typeface="Monotype Corsiva"/>
              </a:rPr>
              <a:t>(около 365 – 300 г.г. до н.э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844640"/>
            <a:ext cx="6130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дом он из Афин, был учеником Платона, научная деятельность протекала в Александрии, где Евклид создал научную школу. Главный труд Евклида «Начала». Почти два тысячелетия геометрия изучалась по этой книге, а наука в честь ученого была названа евклидовой геометри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Геометрия</a:t>
            </a:r>
            <a:r>
              <a:rPr b="0" lang="en-US" sz="5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это наука, занимающаяся изучением геометрических фигу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213000"/>
            <a:ext cx="10810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3500280"/>
            <a:ext cx="1440000" cy="792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595bd"/>
              </a:gs>
              <a:gs pos="100000">
                <a:srgbClr val="0944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141720"/>
            <a:ext cx="1081080" cy="865080"/>
          </a:xfrm>
          <a:custGeom>
            <a:avLst/>
            <a:gdLst>
              <a:gd name="textAreaLeft" fmla="*/ 237600 w 1081080"/>
              <a:gd name="textAreaRight" fmla="*/ 843480 w 1081080"/>
              <a:gd name="textAreaTop" fmla="*/ 190080 h 865080"/>
              <a:gd name="textAreaBottom" fmla="*/ 675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141720"/>
            <a:ext cx="86364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81360"/>
            <a:ext cx="1008000" cy="1440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4797360"/>
            <a:ext cx="1008360" cy="1295640"/>
          </a:xfrm>
          <a:prstGeom prst="rtTriangl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869000"/>
            <a:ext cx="12240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508640"/>
            <a:ext cx="1081080" cy="1657080"/>
          </a:xfrm>
          <a:prstGeom prst="diamond">
            <a:avLst/>
          </a:prstGeom>
          <a:solidFill>
            <a:srgbClr val="c80a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353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Планиметр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часть геометрии, которая рассматривает свойства фигур на плоск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933720"/>
            <a:ext cx="1081080" cy="865440"/>
          </a:xfrm>
          <a:custGeom>
            <a:avLst/>
            <a:gdLst>
              <a:gd name="textAreaLeft" fmla="*/ 237600 w 1081080"/>
              <a:gd name="textAreaRight" fmla="*/ 843480 w 1081080"/>
              <a:gd name="textAreaTop" fmla="*/ 190080 h 865440"/>
              <a:gd name="textAreaBottom" fmla="*/ 675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933720"/>
            <a:ext cx="86364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860640"/>
            <a:ext cx="86544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941720"/>
            <a:ext cx="1008360" cy="1440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5013360"/>
            <a:ext cx="1008000" cy="1295280"/>
          </a:xfrm>
          <a:prstGeom prst="rtTriangl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869000"/>
            <a:ext cx="1081080" cy="1657080"/>
          </a:xfrm>
          <a:prstGeom prst="diamond">
            <a:avLst/>
          </a:prstGeom>
          <a:solidFill>
            <a:srgbClr val="c80a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70563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Стереометрия 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часть геометрии, которая изучает свойства фигур в пространств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860640"/>
            <a:ext cx="10810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3789360"/>
            <a:ext cx="1439640" cy="79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595bd"/>
              </a:gs>
              <a:gs pos="100000">
                <a:srgbClr val="0944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4437000"/>
            <a:ext cx="1224000" cy="1224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730160"/>
            <a:ext cx="741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Monotype Corsiva"/>
              </a:rPr>
              <a:t>Основные фигуры планимет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63640" y="2997360"/>
            <a:ext cx="6194520" cy="2302920"/>
            <a:chOff x="1763640" y="2997360"/>
            <a:chExt cx="6194520" cy="2302920"/>
          </a:xfrm>
        </p:grpSpPr>
        <p:sp>
          <p:nvSpPr>
            <p:cNvPr id="146" name=""/>
            <p:cNvSpPr/>
            <p:nvPr/>
          </p:nvSpPr>
          <p:spPr>
            <a:xfrm flipV="1">
              <a:off x="1763640" y="2997360"/>
              <a:ext cx="6194520" cy="1996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6160" y="4455720"/>
              <a:ext cx="142560" cy="15372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9000" y="5146200"/>
              <a:ext cx="142560" cy="15408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4480" y="3535200"/>
              <a:ext cx="142920" cy="154080"/>
            </a:xfrm>
            <a:prstGeom prst="ellipse">
              <a:avLst/>
            </a:prstGeom>
            <a:solidFill>
              <a:srgbClr val="ee0c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2:31:01Z</dcterms:created>
  <dc:creator>mama</dc:creator>
  <dc:description/>
  <dc:language>en-US</dc:language>
  <cp:lastModifiedBy>Admin</cp:lastModifiedBy>
  <dcterms:modified xsi:type="dcterms:W3CDTF">2011-06-01T11:40:13Z</dcterms:modified>
  <cp:revision>9</cp:revision>
  <dc:subject/>
  <dc:title>Геометрия</dc:title>
</cp:coreProperties>
</file>